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RETARÍA DE HACIENDA DEPARTA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815A0-98AD-4FC0-A0DE-7B163D7E0A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A710C-268E-4542-B62D-3D55FB3EF6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4 Marcador de encabezado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CRETARÍA DE HACIENDA DEPART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D54-CFF7-40AD-A672-4A00C36F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61D-73B4-4EA7-A172-9FF87CAA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038-573C-4C96-A7D5-34B4909D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8D2-3630-4ADF-80B4-05B19461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CC5B-8A05-447F-AAE6-783BB3BE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E755-A5CD-489C-8C37-C4A93EC2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4954-FF10-485B-B402-BD62D711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06C1-D3C8-4C0D-8D09-1D7F3D58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1A33-5414-45FF-8DC8-1B583477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9767-6F59-448B-8A0B-95B5D58B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F475-8B68-4D2F-B69F-1B0DFF2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BDA-D8F1-4659-B0E4-EE7099BD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2704-477E-48F1-8154-D6DAD1C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A027-74C5-4706-B223-57728D22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9826-DB4B-492D-AB4E-819C2336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E1E0-1802-485E-9FA6-F2C99E35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1AF3-F147-4382-9318-500D144F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4010-AB69-44E9-94DF-67464607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BFB6-6A01-44AB-B931-BB7EA91D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FB738-E3A0-4187-8B9B-D64F41E7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F17A-38D6-493C-AF39-40F0578B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7EA6-2F19-4A02-93DB-562AE219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F66-7106-472F-89D7-7356A895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7E50-5B47-43D2-AFC9-9AA070FA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53BF-7A3C-4DED-B185-1E38A23A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29E5-996C-4056-AE4E-9445046D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0FCA-CF49-40C0-ACD2-7268A7C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5FEAF-C954-4161-B827-DCC420EB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C1B9-5F5D-47CB-8A28-44530619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B4F03-F157-4232-A0D0-AF42B03B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F5D-6481-44E1-86BA-04B9AEC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CCE-72EF-4718-A50C-F7D9C86B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696-2551-4A97-9A7E-8B6D5E5A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CC6-7CEC-4F5A-99B5-93382AA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945-57B6-476C-8261-364ABC21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F1B-50C9-4105-A640-8F68C95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A5B9B-FBE6-419F-9412-87D2717453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EB1AD-633A-4E5A-881B-991D296E8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2635E-57DD-431E-A360-A30CD5E3D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B3995-5FA0-4CA4-BB30-1FF002931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E4340-DA2E-468C-8AF0-9ED1476114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6D413-16AC-49D6-81A1-FB9FBFC17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SECRETARÍA DE HACI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3 Imagen" descr=""/>
          <p:cNvPicPr/>
          <p:nvPr/>
        </p:nvPicPr>
        <p:blipFill>
          <a:blip r:embed="rId1"/>
          <a:stretch/>
        </p:blipFill>
        <p:spPr>
          <a:xfrm>
            <a:off x="1728720" y="781200"/>
            <a:ext cx="6335640" cy="529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3 Marcador de contenido" descr=""/>
          <p:cNvPicPr/>
          <p:nvPr/>
        </p:nvPicPr>
        <p:blipFill>
          <a:blip r:embed="rId1"/>
          <a:stretch/>
        </p:blipFill>
        <p:spPr>
          <a:xfrm>
            <a:off x="1481040" y="878040"/>
            <a:ext cx="589752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455 Imagen" descr=""/>
          <p:cNvPicPr/>
          <p:nvPr/>
        </p:nvPicPr>
        <p:blipFill>
          <a:blip r:embed="rId1"/>
          <a:stretch/>
        </p:blipFill>
        <p:spPr>
          <a:xfrm>
            <a:off x="1641600" y="349200"/>
            <a:ext cx="6162480" cy="62499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"/>
          <p:cNvSpPr/>
          <p:nvPr/>
        </p:nvSpPr>
        <p:spPr>
          <a:xfrm>
            <a:off x="1633680" y="511200"/>
            <a:ext cx="58766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3 Imagen" descr=""/>
          <p:cNvPicPr/>
          <p:nvPr/>
        </p:nvPicPr>
        <p:blipFill>
          <a:blip r:embed="rId1"/>
          <a:stretch/>
        </p:blipFill>
        <p:spPr>
          <a:xfrm>
            <a:off x="1816200" y="379440"/>
            <a:ext cx="6654600" cy="6159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MUCHAS GRACIAS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4 Imagen" descr=""/>
          <p:cNvPicPr/>
          <p:nvPr/>
        </p:nvPicPr>
        <p:blipFill>
          <a:blip r:embed="rId1"/>
          <a:stretch/>
        </p:blipFill>
        <p:spPr>
          <a:xfrm>
            <a:off x="949320" y="1690560"/>
            <a:ext cx="7107120" cy="3916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3 Imagen" descr=""/>
          <p:cNvPicPr/>
          <p:nvPr/>
        </p:nvPicPr>
        <p:blipFill>
          <a:blip r:embed="rId1"/>
          <a:stretch/>
        </p:blipFill>
        <p:spPr>
          <a:xfrm>
            <a:off x="1535040" y="723960"/>
            <a:ext cx="6367680" cy="5349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619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DEUDA PÚBLICA</a:t>
            </a:r>
            <a:br>
              <a:rPr sz="2000"/>
            </a:b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Durante el presente período de gobierno, el saldo de la Deuda Pública se incrementó en $29.473 millones, pasando de $27.749 a $57.222, con un incremento porcentual del 106%.  Se han obtenido créditos por la suma de $90.620 millones, se amortizó a la deuda $61.147 millones y se pagó por intereses la suma de $14.875 millones.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Los indicadores de la Ley 358 de 1997, so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OLVENCIA</a:t>
            </a: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  (Intereses pagados y causados durante la vigencia / ahorro operacional) =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8.89%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OSTENIBILIDAD</a:t>
            </a: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  (Saldo de la deuda / Ingresos Corrientes) =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55.09%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Los cuales se encuentran dentro de los límites establecidos por la Ley 358 de 1997, cuyos indicadores no pueden superar el 40% y el 80% respectiv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1 Gráfico" descr=""/>
          <p:cNvPicPr/>
          <p:nvPr/>
        </p:nvPicPr>
        <p:blipFill>
          <a:blip r:embed="rId1"/>
          <a:stretch/>
        </p:blipFill>
        <p:spPr>
          <a:xfrm>
            <a:off x="274680" y="506520"/>
            <a:ext cx="8594640" cy="5844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 Gráfico" descr=""/>
          <p:cNvPicPr/>
          <p:nvPr/>
        </p:nvPicPr>
        <p:blipFill>
          <a:blip r:embed="rId1"/>
          <a:stretch/>
        </p:blipFill>
        <p:spPr>
          <a:xfrm>
            <a:off x="281160" y="506520"/>
            <a:ext cx="8581680" cy="5844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8869320" cy="635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4 Gráfico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31200" cy="45831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3 Gráfico" descr=""/>
          <p:cNvPicPr/>
          <p:nvPr/>
        </p:nvPicPr>
        <p:blipFill>
          <a:blip r:embed="rId1"/>
          <a:stretch/>
        </p:blipFill>
        <p:spPr>
          <a:xfrm>
            <a:off x="1359000" y="1341360"/>
            <a:ext cx="6254640" cy="4443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58:52Z</dcterms:created>
  <dc:creator>Waldo Mejia</dc:creator>
  <dc:description/>
  <dc:language>en-US</dc:language>
  <cp:lastModifiedBy>Gocampo</cp:lastModifiedBy>
  <dcterms:modified xsi:type="dcterms:W3CDTF">2011-12-21T13:17:08Z</dcterms:modified>
  <cp:revision>33</cp:revision>
  <dc:subject/>
  <dc:title>Slide 1</dc:title>
</cp:coreProperties>
</file>