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660A-0EF7-44E7-A92A-81939D15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99F7-2D5A-47D0-9D0D-34F945FD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EB2E-C050-476E-A21B-B6F965C4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8FCB-19A9-435B-90AF-2DACA649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63B6-A95A-4C2B-901E-B845A80B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5925-8F9E-4B07-A604-A807501F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7910-E285-4103-ABF9-4B05E6D6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07E6-93A4-4389-856A-40046BF5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735B-0A43-477E-BB0D-FF68C8F3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4052-AFFB-4DA3-89CC-FA1C77E1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DE8C-9950-47DE-B8B4-0664E4DF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FE6A-5858-4ADC-82E1-F5FBD64C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9E8E-10F3-42CA-85E9-93E83363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3C3C-E64C-4EC8-BFFA-05E048FA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CD86-D7DB-41FF-A5AE-2DCD6695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A60F-D87E-4DCC-93E0-F0A68962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CD4C-3841-402B-8A39-3983C4E8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14BD4-9240-4563-8F05-B70D173A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D45C2-AF67-4531-AEF3-F4C1273D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8217E-D4EC-4A71-B54B-63E15744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C901F-66AA-45AA-9D85-C2998B23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B3729-A41A-4CB2-9DF3-3CD55CD6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57BB-6035-4AA1-943A-E18B55E5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9E348-C6C1-491E-8934-7AA7AAC9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D71D4-0A91-4353-8428-97520512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1AC23-9247-4803-933D-32ECBE80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B258E-7E8D-43FE-B0EE-BCBB8A77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5ED2B-EF04-4B32-A69F-2B426C10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AA6F4-3705-4852-9996-85A9B2EB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F6070-57DE-4BAF-BB7E-BF995B3A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7C42-A94E-490F-B396-FD56C2A9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8EFE-6167-4FDA-9402-59EEBC22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DA24-44BF-4742-9D75-EB422AF8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3030-2841-4B71-B3F4-1A8E19B1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DAF4-47B3-472E-9164-1AEAEDB5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AFB1-A267-44C3-8111-79F9619E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E6A6B-64C6-4888-9401-7A2AB939B5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1D3E89-8F81-4FA7-B579-778351A3C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gocampo\Escritorio\LOGO-02.png"/>
          <p:cNvPicPr/>
          <p:nvPr/>
        </p:nvPicPr>
        <p:blipFill>
          <a:blip r:embed="rId3"/>
          <a:stretch/>
        </p:blipFill>
        <p:spPr>
          <a:xfrm>
            <a:off x="6872400" y="127080"/>
            <a:ext cx="2212920" cy="1290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630981-A187-4513-AA70-5DD14291EE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31E9A-22EF-419A-9230-9200ED7FE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gocampo\Escritorio\LOGO-02.png"/>
          <p:cNvPicPr/>
          <p:nvPr/>
        </p:nvPicPr>
        <p:blipFill>
          <a:blip r:embed="rId3"/>
          <a:stretch/>
        </p:blipFill>
        <p:spPr>
          <a:xfrm>
            <a:off x="6872400" y="127080"/>
            <a:ext cx="2212920" cy="1290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5414A2-90E4-4D91-A109-6780B1F44E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0AD13-E61C-4377-8418-E7E30EEDD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5 CuadroTexto"/>
          <p:cNvSpPr/>
          <p:nvPr/>
        </p:nvSpPr>
        <p:spPr>
          <a:xfrm>
            <a:off x="519120" y="1998720"/>
            <a:ext cx="80787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5200" spc="-1" strike="noStrike">
                <a:solidFill>
                  <a:srgbClr val="000000"/>
                </a:solidFill>
                <a:latin typeface="Arial"/>
              </a:rPr>
              <a:t>INFORME DE GESTION 2008 - 2011  SECRETARIA DE CULTURA DE CALDA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2 Subtítulo"/>
          <p:cNvSpPr/>
          <p:nvPr/>
        </p:nvSpPr>
        <p:spPr>
          <a:xfrm>
            <a:off x="714240" y="1276200"/>
            <a:ext cx="78058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200" spc="-1" strike="noStrike" u="sng">
                <a:solidFill>
                  <a:srgbClr val="128e4f"/>
                </a:solidFill>
                <a:uFillTx/>
                <a:latin typeface="Calibri"/>
                <a:ea typeface="ＭＳ Ｐゴシック"/>
              </a:rPr>
              <a:t>LOG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olidación del programa de participación ciudadana Vigías del Patrimonio Cultural, en brigadas de voluntariado, en 22 municipios del departamento, como estrategia de Divulgación, sensibilización y apropiación Social del Patrimonio Cultural, por parte de las comunidades del Departamento de Cal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Fortalecimiento de la Escuela Talle r de Recuperación de Materiales, Técnicas Constructivas y Saberes Tradicionales de Caldas, localizada en el Municipio de Salam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Consolidación del Consejo Departamental de Patrimonio Cultural, Cal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35 CuadroTexto"/>
          <p:cNvSpPr/>
          <p:nvPr/>
        </p:nvSpPr>
        <p:spPr>
          <a:xfrm>
            <a:off x="1865160" y="404640"/>
            <a:ext cx="692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SERVACIÓN DEL PATRIMONIO Y LA IDENTIDAD CULTURAL DEL DEPARTAMENTO DE CAL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2 Subtítulo"/>
          <p:cNvSpPr/>
          <p:nvPr/>
        </p:nvSpPr>
        <p:spPr>
          <a:xfrm>
            <a:off x="365040" y="1233360"/>
            <a:ext cx="8155080" cy="50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200" spc="-1" strike="noStrike" u="sng">
                <a:solidFill>
                  <a:srgbClr val="128e4f"/>
                </a:solidFill>
                <a:uFillTx/>
                <a:latin typeface="Calibri"/>
                <a:ea typeface="ＭＳ Ｐゴシック"/>
              </a:rPr>
              <a:t>LOG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lización de Inventarios y registros del Patrimonio Cultural, con el fin de definir actividades e intervenciones que conlleven a su preservación y divulgación, para la generación de la política pública de Preservación del Patrimonio Cultural del Depart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lo anterior se han realizado diferentes etapas del Inventario y Regist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TRIMONIO INMUE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orada, Norcasia, Victoria, Manzanares, Pensilvania, Marquetalia, Marulanda, Neira, Aranzazu, Pacora, Belalcazar, La Merced y Marma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TRIMONIO IN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osucio, Supía, Anserma, Risaralda, San José, Belalcazar, Viterbo, La Merced, Marmato, La Dorada, Norcasia, Victoria y Saman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35 CuadroTexto"/>
          <p:cNvSpPr/>
          <p:nvPr/>
        </p:nvSpPr>
        <p:spPr>
          <a:xfrm>
            <a:off x="1865160" y="404640"/>
            <a:ext cx="692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SERVACIÓN DEL PATRIMONIO Y LA IDENTIDAD CULTURAL DEL DEPARTAMENTO DE CAL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2 Subtítulo"/>
          <p:cNvSpPr/>
          <p:nvPr/>
        </p:nvSpPr>
        <p:spPr>
          <a:xfrm>
            <a:off x="714240" y="1276200"/>
            <a:ext cx="78058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200" spc="-1" strike="noStrike" u="sng">
                <a:solidFill>
                  <a:srgbClr val="128e4f"/>
                </a:solidFill>
                <a:uFillTx/>
                <a:latin typeface="Calibri"/>
                <a:ea typeface="ＭＳ Ｐゴシック"/>
              </a:rPr>
              <a:t>LOG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claratoria del Carnaval de Riosucio como Bien de Interés Cultural Nacio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aboración del Plan Especial de Salvaguardia de la </a:t>
            </a:r>
            <a:br>
              <a:rPr sz="2200"/>
            </a:b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nifestaciones Culturales del Carnaval de Riosuc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icio de los Planes Especiales de Manejo y Protección de los Centros Históricos de Aguadas y Salami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5 CuadroTexto"/>
          <p:cNvSpPr/>
          <p:nvPr/>
        </p:nvSpPr>
        <p:spPr>
          <a:xfrm>
            <a:off x="1865160" y="404640"/>
            <a:ext cx="692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SERVACIÓN DEL PATRIMONIO Y LA IDENTIDAD CULTURAL DEL DEPARTAMENTO DE CAL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2 Subtítulo"/>
          <p:cNvSpPr/>
          <p:nvPr/>
        </p:nvSpPr>
        <p:spPr>
          <a:xfrm>
            <a:off x="714240" y="1276200"/>
            <a:ext cx="78058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200" spc="-1" strike="noStrike" u="sng">
                <a:solidFill>
                  <a:srgbClr val="128e4f"/>
                </a:solidFill>
                <a:uFillTx/>
                <a:latin typeface="Calibri"/>
                <a:ea typeface="ＭＳ Ｐゴシック"/>
              </a:rPr>
              <a:t>LOG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cuperación del Patrimonio Cultural, a través de obras  de mantenimiento en Bienes Inmuebles de Interés Cultural, en los municipios de Aranzazu, Salamina, Neira, Belalcázar, San José, Viterbo, Aguadas, Risaralda, Chinchiná, Manizales y Filadelfia como estrategia de preservación y salvaguarda del Patrimonio Cultural Mater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35 CuadroTexto"/>
          <p:cNvSpPr/>
          <p:nvPr/>
        </p:nvSpPr>
        <p:spPr>
          <a:xfrm>
            <a:off x="1865160" y="419040"/>
            <a:ext cx="692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SERVACIÓN DEL PATRIMONIO Y LA IDENTIDAD CULTURAL DEL DEPARTAMENTO DE CAL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2 Subtítulo"/>
          <p:cNvSpPr/>
          <p:nvPr/>
        </p:nvSpPr>
        <p:spPr>
          <a:xfrm>
            <a:off x="127080" y="1703520"/>
            <a:ext cx="864864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200" spc="-1" strike="noStrike" u="sng">
                <a:solidFill>
                  <a:srgbClr val="128e4f"/>
                </a:solidFill>
                <a:uFillTx/>
                <a:latin typeface="Calibri"/>
                <a:ea typeface="ＭＳ Ｐゴシック"/>
              </a:rPr>
              <a:t>LOG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lización de un Encuentro Etnocultural, con la participación de 2000 indígenas y afrodescendie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implementó un Sistema de información que consolida toda la oferta del departamento en términos de arte y cultura, Tener la información actualizada y georreferenciada,  acerca del inventario del patrimonio, y de lo cultural, de las rutas turísticas y de los eventos, se ha vuelto una necesidad para toda la red cultural departamento y de los promotores que buscan vender a Caldas como destino turístico a nivel nacional e internacion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35 CuadroTexto"/>
          <p:cNvSpPr/>
          <p:nvPr/>
        </p:nvSpPr>
        <p:spPr>
          <a:xfrm>
            <a:off x="1882800" y="355680"/>
            <a:ext cx="707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5. GESTIÓN DE PROCESOS DE FORMACIÓN Y DIVULGACIÓN DE LA CULTURA EN CALDAS Y SU INTERNACIONALIZ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2 Subtítulo"/>
          <p:cNvSpPr/>
          <p:nvPr/>
        </p:nvSpPr>
        <p:spPr>
          <a:xfrm>
            <a:off x="127080" y="1785960"/>
            <a:ext cx="86486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200" spc="-1" strike="noStrike" u="sng">
                <a:solidFill>
                  <a:srgbClr val="128e4f"/>
                </a:solidFill>
                <a:uFillTx/>
                <a:latin typeface="Calibri"/>
                <a:ea typeface="ＭＳ Ｐゴシック"/>
              </a:rPr>
              <a:t>LOG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solidación de aproximadamente 400 registros y 300 usuarios de la comunidad virtual del siste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35 CuadroTexto"/>
          <p:cNvSpPr/>
          <p:nvPr/>
        </p:nvSpPr>
        <p:spPr>
          <a:xfrm>
            <a:off x="1882800" y="355680"/>
            <a:ext cx="707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5. GESTIÓN DE PROCESOS DE FORMACIÓN Y DIVULGACIÓN DE LA CULTURA EN CALDAS Y SU INTERNACIONALIZ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39760" y="297000"/>
            <a:ext cx="82296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ENTIDADES CULTURALES APOYAD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200772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Fundación para la Formación Musical: Orquesta de Cámara de Cald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Fundación Batuta Cal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Museo de Arte de Cal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Orquesta Sinfónica Juveni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Agrupación Teatral TI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Actores en Esce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200772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Academia Caldense de Histo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Fundación Escenarios de Vi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Corporación Carnaval de Riosuc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Corporación Encuentro de la Palab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Fundación Punto de Parti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Corporación Rafaél Pom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ÉVENTOS  CULTURALES APOYADO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200772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estival Internacional de Teat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estival Nacional del Pasil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estival Internacional del Bol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estival Internacional de Música Ciudad de Maniz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estival del Jaz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estival Nacional de Poes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19000" y="385920"/>
            <a:ext cx="8229600" cy="11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ÉVENTOS  CULTURALES APOYADO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808280"/>
            <a:ext cx="822960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Juegos Florales de Maniz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Festival Internacional de Música Sac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articipación del Departamento en las Ferias del Libro en Bogot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articipación de la Banda de Neira a Housto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articipación de la Gobernación en todas las fiestas y celebraciones municipa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articipación en el Día del Niño, el Libro y la Recreació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534960" y="1898640"/>
          <a:ext cx="7497720" cy="3255840"/>
        </p:xfrm>
        <a:graphic>
          <a:graphicData uri="http://schemas.openxmlformats.org/drawingml/2006/table">
            <a:tbl>
              <a:tblPr/>
              <a:tblGrid>
                <a:gridCol w="1854360"/>
                <a:gridCol w="3051000"/>
                <a:gridCol w="2592360"/>
              </a:tblGrid>
              <a:tr h="31284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UPUEST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48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RETARIA DE CULTURA 2008-20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Ñ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UPUESTO INIC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UPUESTO EJECU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61.858.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</a:t>
                      </a: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53.106.517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22.350.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</a:t>
                      </a: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79.240.127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02.064.67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</a:t>
                      </a: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92.920.000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28.400.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</a:t>
                      </a: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14.770.818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35 CuadroTexto"/>
          <p:cNvSpPr/>
          <p:nvPr/>
        </p:nvSpPr>
        <p:spPr>
          <a:xfrm>
            <a:off x="1508040" y="538200"/>
            <a:ext cx="6953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800" spc="-1" strike="noStrike">
                <a:solidFill>
                  <a:srgbClr val="000000"/>
                </a:solidFill>
                <a:latin typeface="Arial"/>
              </a:rPr>
              <a:t>PROGRAM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0 CuadroTexto"/>
          <p:cNvSpPr/>
          <p:nvPr/>
        </p:nvSpPr>
        <p:spPr>
          <a:xfrm>
            <a:off x="216000" y="1785960"/>
            <a:ext cx="86691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DESARROLLO INSTITU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FOMENTO A LA CUL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ROGRAMA DEPARTAMENTAL DE FORMACIÓN ARTÍS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RESERVACIÓN DEL PATRIMONIO Y LA IDENTIDAD CULTURAL DEL DEPARTAMENTO DE CAL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GESTIÓN DE PROCESOS DE FORMACIÓN Y DIVULGACIÓN DE LA CULTURA DE CALDAS Y SU INTERNACIONALIZ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5 CuadroTexto"/>
          <p:cNvSpPr/>
          <p:nvPr/>
        </p:nvSpPr>
        <p:spPr>
          <a:xfrm>
            <a:off x="1486080" y="573120"/>
            <a:ext cx="724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. DESARROLLO INSTITU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2 Subtítulo"/>
          <p:cNvSpPr/>
          <p:nvPr/>
        </p:nvSpPr>
        <p:spPr>
          <a:xfrm>
            <a:off x="195120" y="1395360"/>
            <a:ext cx="83487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 u="sng">
                <a:solidFill>
                  <a:srgbClr val="128e4f"/>
                </a:solidFill>
                <a:uFillTx/>
                <a:latin typeface="Calibri"/>
                <a:ea typeface="ＭＳ Ｐゴシック"/>
              </a:rPr>
              <a:t>LOG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reación de 26  consejos municipales de cultura, 3 consejos de áreas artísticas  y 1 de medios comunitarios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alización del diplomado en Gestión Cultural para la Administración Pública dirigida a todos los gestores y actores culturales del departa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2 Subtítulo"/>
          <p:cNvSpPr/>
          <p:nvPr/>
        </p:nvSpPr>
        <p:spPr>
          <a:xfrm>
            <a:off x="263520" y="1714680"/>
            <a:ext cx="85662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 u="sng">
                <a:solidFill>
                  <a:srgbClr val="128e4f"/>
                </a:solidFill>
                <a:uFillTx/>
                <a:latin typeface="Calibri"/>
                <a:ea typeface="ＭＳ Ｐゴシック"/>
              </a:rPr>
              <a:t>LOG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han apoyado  280 iniciativas culturales en todas las áreas artísticas y culturales, representadas en eventos, fiestas, celebraciones, muestras, salones de arte, agrupaciones, entidades culturales y procesos forma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35 CuadroTexto"/>
          <p:cNvSpPr/>
          <p:nvPr/>
        </p:nvSpPr>
        <p:spPr>
          <a:xfrm>
            <a:off x="1584360" y="84456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2. FOMENTO A LA 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2 Subtítulo"/>
          <p:cNvSpPr/>
          <p:nvPr/>
        </p:nvSpPr>
        <p:spPr>
          <a:xfrm>
            <a:off x="236520" y="1609560"/>
            <a:ext cx="86612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 u="sng">
                <a:solidFill>
                  <a:srgbClr val="128e4f"/>
                </a:solidFill>
                <a:uFillTx/>
                <a:latin typeface="Calibri"/>
                <a:ea typeface="ＭＳ Ｐゴシック"/>
              </a:rPr>
              <a:t>LOG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formación permanente de 1500 jóvenes y niños en las diferentes modalidades cultur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ormación permanente a más de 1000 niños y jóvenes en música autóctona y tradicional que ha permitido la conformación de 26 escuelas de música institucionalizadas por los respectivos concejos municip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35 CuadroTexto"/>
          <p:cNvSpPr/>
          <p:nvPr/>
        </p:nvSpPr>
        <p:spPr>
          <a:xfrm>
            <a:off x="1741320" y="493560"/>
            <a:ext cx="700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3. PROGRAMA DEPARTAMENTAL DE FORMACIÓN ARTÍSTICA Y CULTU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5 CuadroTexto"/>
          <p:cNvSpPr/>
          <p:nvPr/>
        </p:nvSpPr>
        <p:spPr>
          <a:xfrm>
            <a:off x="1741320" y="561960"/>
            <a:ext cx="700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3. PROGRAMA DEPARTAMENTAL DE LECTURA Y BIBLIOTE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2 Subtítulo"/>
          <p:cNvSpPr/>
          <p:nvPr/>
        </p:nvSpPr>
        <p:spPr>
          <a:xfrm>
            <a:off x="642960" y="1500120"/>
            <a:ext cx="825480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200" spc="-1" strike="noStrike" u="sng">
                <a:solidFill>
                  <a:srgbClr val="128e4f"/>
                </a:solidFill>
                <a:uFillTx/>
                <a:latin typeface="Arial"/>
                <a:ea typeface="Arial"/>
              </a:rPr>
              <a:t>LOG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ormación permanente a todos los bibliotecarios del departamento a través de talleres, seminarios, congres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comunicación permanente con el Ministerio de Cultura ha sido crucial para el fortalecimiento  de las bibliotecas públicas del departamento,   a través de  con un convenio de asociación con este Ministerio se logró la dotación del el 98%  de las bibliotecas del departamento, y con la gestión ante la Embajada del Japón se logró construir 5  bibliotecas en los municipios de Pensilvania, Marmato, San Jose, Villamaría, Filadelf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5 CuadroTexto"/>
          <p:cNvSpPr/>
          <p:nvPr/>
        </p:nvSpPr>
        <p:spPr>
          <a:xfrm>
            <a:off x="1892160" y="466560"/>
            <a:ext cx="7005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Subtítulo"/>
          <p:cNvSpPr/>
          <p:nvPr/>
        </p:nvSpPr>
        <p:spPr>
          <a:xfrm>
            <a:off x="642960" y="1500120"/>
            <a:ext cx="825480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200" spc="-1" strike="noStrike" u="sng">
                <a:solidFill>
                  <a:srgbClr val="128e4f"/>
                </a:solidFill>
                <a:uFillTx/>
                <a:latin typeface="Arial"/>
                <a:ea typeface="Arial"/>
              </a:rPr>
              <a:t>LOG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mplementación de programas de promoción a la lectura que han sido modelos a nivel nacio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otación de colecciones nuevas a todas las bibliotecas públicas del departamento, como 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herramienta importante para la actualización de la información y el conocimiento, y de esta manera prestar un mejor servicio biblioteca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3 Rectángulo"/>
          <p:cNvSpPr/>
          <p:nvPr/>
        </p:nvSpPr>
        <p:spPr>
          <a:xfrm>
            <a:off x="2286000" y="466560"/>
            <a:ext cx="52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3. PROGRAMA DEPARTAMENTAL DE LECTURA Y BIBLIOTE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2 Subtítulo"/>
          <p:cNvSpPr/>
          <p:nvPr/>
        </p:nvSpPr>
        <p:spPr>
          <a:xfrm>
            <a:off x="714240" y="1276200"/>
            <a:ext cx="78058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200" spc="-1" strike="noStrike" u="sng">
                <a:solidFill>
                  <a:srgbClr val="128e4f"/>
                </a:solidFill>
                <a:uFillTx/>
                <a:latin typeface="Calibri"/>
                <a:ea typeface="ＭＳ Ｐゴシック"/>
              </a:rPr>
              <a:t>LOG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claratoria del Paisaje Cultural Cafetero, de los departamentos de Caldas, Quindío, Risaralda y Valle como patrimonio mundial y Nacio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laneación del desarrollo de los objetivos del Plan de Manejo del Paisaje Cultural Cafete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udios de Rutas de Turismo Cultural en las Subregiones Norte, Magdalena Caldense y Occidente Alto y Baj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35 CuadroTexto"/>
          <p:cNvSpPr/>
          <p:nvPr/>
        </p:nvSpPr>
        <p:spPr>
          <a:xfrm>
            <a:off x="1865160" y="404640"/>
            <a:ext cx="692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SERVACIÓN DEL PATRIMONIO Y LA IDENTIDAD CULTURAL DEL DEPARTAMENTO DE CAL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6:58:52Z</dcterms:created>
  <dc:creator>Waldo Mejia</dc:creator>
  <dc:description/>
  <dc:language>en-US</dc:language>
  <cp:lastModifiedBy>usuario</cp:lastModifiedBy>
  <dcterms:modified xsi:type="dcterms:W3CDTF">2011-12-19T18:27:29Z</dcterms:modified>
  <cp:revision>4</cp:revision>
  <dc:subject/>
  <dc:title>Slide 1</dc:title>
</cp:coreProperties>
</file>