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9.wmf" ContentType="image/x-wmf"/>
  <Override PartName="/ppt/media/image14.wmf" ContentType="image/x-wmf"/>
  <Override PartName="/ppt/media/image6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1.wmf" ContentType="image/x-wmf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8AB0E-7BEF-48DC-AA1E-9FFCB69264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94DA30-7F8A-4174-9E55-9324D68AAE6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B678-D90F-4461-BF2A-CDA5D667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4F46-9AC6-4CB2-9908-C1E580F3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30C0-EA20-45E0-B737-6CEDB34A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7091-5199-4A43-9DA2-DB45E648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EB5F-BC4B-4CA3-A2A8-3465AA18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E63D-E11A-4BFD-AF93-E96ED348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91E5-77E3-4F51-BDDC-668914C5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C06F-130E-40B1-A57B-2B90D827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4E41-0ED2-44C4-9955-8D1B5E1E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F1B6-EB29-42AD-BE36-E7DBE74D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85FF-90C4-44E2-A077-4A6C5748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749-6E9A-4E53-9E1F-382FBEE0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A1D3-8B96-4515-A983-4BD80D80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4515-EE7F-4BEB-B971-5E39D71A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0225-3C90-4A1E-A390-C5633AB7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8366-CE80-4EFA-86D8-C1A682C2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4328-1430-4646-90E7-58B5390D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F6C15-A49F-4E2B-8060-75E2E53E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4F505-EA7F-4284-8903-5E4FAC05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55DA4-C79C-438E-95D7-BF837EBC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B7BF0-8BB1-42CF-AD0F-0F3F411F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121AF-31B6-4802-B4EB-F6FAAFCC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9AEA-11EB-42DD-A91B-213FBE71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62132-6124-4CA5-962A-01DDE1C8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42ABA-37AF-4C5B-ACBB-85488650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2DA1F-FE2E-475F-87E2-244C8D60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CDB3C-A52C-436E-AB2B-E5147B62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9628A-2106-46C5-A180-D46574CA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CB405-C556-436D-AD21-976078DF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B208F-AC80-4369-B63F-154B0F18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5F39-FFD8-4355-802D-86539DDB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C07-97C7-4CCE-8D41-DA62D541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B183-6B81-4323-9F3C-0E178D35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B64-D1C1-42BA-8153-04E213E3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03A0-C0FE-4FC9-8ECB-DA390194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E820-802B-42AB-B27A-A708CFF8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FDCAC-0F25-42E6-A8C3-71CF1192ED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9152C-FAB8-4F83-84E1-D4AF4690A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gocampo\Escritorio\LOGO-02.png"/>
          <p:cNvPicPr/>
          <p:nvPr/>
        </p:nvPicPr>
        <p:blipFill>
          <a:blip r:embed="rId3"/>
          <a:stretch/>
        </p:blipFill>
        <p:spPr>
          <a:xfrm>
            <a:off x="6872400" y="127080"/>
            <a:ext cx="2212920" cy="1290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D644C-5D4F-4D10-9963-CD0CFB4070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DBA61-BF56-431F-AF0D-91E1F67A8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gocampo\Escritorio\LOGO-02.png"/>
          <p:cNvPicPr/>
          <p:nvPr/>
        </p:nvPicPr>
        <p:blipFill>
          <a:blip r:embed="rId3"/>
          <a:stretch/>
        </p:blipFill>
        <p:spPr>
          <a:xfrm>
            <a:off x="6872400" y="127080"/>
            <a:ext cx="2212920" cy="1290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98F69B-82C8-4800-89D4-8D6E759A82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70FA5-B9DB-46A2-BB58-7815B64DA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38564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PRESA DE OBRAS SANITARIAS DE CALD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POCALDAS S.A. E.S.P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NDICION DE CUENTAS PERIODO 2008-2011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Object 5"/>
          <p:cNvGraphicFramePr/>
          <p:nvPr/>
        </p:nvGraphicFramePr>
        <p:xfrm>
          <a:off x="3906720" y="5099040"/>
          <a:ext cx="85896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720" y="5099040"/>
                    <a:ext cx="8589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arativo Cart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831960" y="1606680"/>
            <a:ext cx="7854840" cy="403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Object 5"/>
          <p:cNvGraphicFramePr/>
          <p:nvPr/>
        </p:nvGraphicFramePr>
        <p:xfrm>
          <a:off x="1940040" y="549360"/>
          <a:ext cx="666720" cy="69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40040" y="549360"/>
                    <a:ext cx="6667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isis Comparativo Cart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758000" cy="477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Object 5"/>
          <p:cNvGraphicFramePr/>
          <p:nvPr/>
        </p:nvGraphicFramePr>
        <p:xfrm>
          <a:off x="1940040" y="549360"/>
          <a:ext cx="666720" cy="69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40040" y="549360"/>
                    <a:ext cx="6667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CION DE INVERSION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50888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Object 5"/>
          <p:cNvGraphicFramePr/>
          <p:nvPr/>
        </p:nvGraphicFramePr>
        <p:xfrm>
          <a:off x="1884240" y="552600"/>
          <a:ext cx="666720" cy="69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84240" y="552600"/>
                    <a:ext cx="6667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CION PRESUPUESTAL</a:t>
            </a:r>
            <a:br>
              <a:rPr sz="2400"/>
            </a:b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2022480" y="558720"/>
          <a:ext cx="85896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2480" y="558720"/>
                    <a:ext cx="8589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720720" y="1417680"/>
            <a:ext cx="77868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CION PRESUPUES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Object 5"/>
          <p:cNvGraphicFramePr/>
          <p:nvPr/>
        </p:nvGraphicFramePr>
        <p:xfrm>
          <a:off x="2022480" y="558720"/>
          <a:ext cx="85896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2480" y="558720"/>
                    <a:ext cx="8589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1098720" y="1417680"/>
            <a:ext cx="758808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CION PRESUPUESTAL</a:t>
            </a:r>
            <a:br>
              <a:rPr sz="2400"/>
            </a:b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735120" y="1417680"/>
            <a:ext cx="7564320" cy="481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Object 5"/>
          <p:cNvGraphicFramePr/>
          <p:nvPr/>
        </p:nvGraphicFramePr>
        <p:xfrm>
          <a:off x="2494080" y="558720"/>
          <a:ext cx="858600" cy="85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94080" y="558720"/>
                    <a:ext cx="8586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STION FINANCI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Object 5"/>
          <p:cNvGraphicFramePr/>
          <p:nvPr/>
        </p:nvGraphicFramePr>
        <p:xfrm>
          <a:off x="2022480" y="558720"/>
          <a:ext cx="858960" cy="85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22480" y="558720"/>
                    <a:ext cx="8589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STION FINANCI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93908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Object 5"/>
          <p:cNvGraphicFramePr/>
          <p:nvPr/>
        </p:nvGraphicFramePr>
        <p:xfrm>
          <a:off x="2022480" y="558720"/>
          <a:ext cx="858960" cy="85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22480" y="558720"/>
                    <a:ext cx="8589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STION FINANCI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9628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5"/>
          <p:cNvGraphicFramePr/>
          <p:nvPr/>
        </p:nvGraphicFramePr>
        <p:xfrm>
          <a:off x="2022480" y="558720"/>
          <a:ext cx="858960" cy="85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22480" y="558720"/>
                    <a:ext cx="8589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ERCIALIZAC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SERVICIO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457200" y="1417680"/>
            <a:ext cx="7756560" cy="501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Object 5"/>
          <p:cNvGraphicFramePr/>
          <p:nvPr/>
        </p:nvGraphicFramePr>
        <p:xfrm>
          <a:off x="1940040" y="549360"/>
          <a:ext cx="666720" cy="69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40040" y="549360"/>
                    <a:ext cx="6667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T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122480" y="1600200"/>
            <a:ext cx="720396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Object 5"/>
          <p:cNvGraphicFramePr/>
          <p:nvPr/>
        </p:nvGraphicFramePr>
        <p:xfrm>
          <a:off x="1940040" y="549360"/>
          <a:ext cx="666720" cy="69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40040" y="549360"/>
                    <a:ext cx="6667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6:58:52Z</dcterms:created>
  <dc:creator>Waldo Mejia</dc:creator>
  <dc:description/>
  <dc:language>en-US</dc:language>
  <cp:lastModifiedBy>Gocampo</cp:lastModifiedBy>
  <dcterms:modified xsi:type="dcterms:W3CDTF">2011-12-21T13:15:18Z</dcterms:modified>
  <cp:revision>7</cp:revision>
  <dc:subject/>
  <dc:title>Slide 1</dc:title>
</cp:coreProperties>
</file>